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CD4-0BD2-465F-9542-72B11C8C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A38-A7A5-4BA2-ACAB-58DEA361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1B8-2F29-4CFC-B19B-6C034039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CA4-FFC2-4B11-BA0F-9A929BFB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1D74-AAC5-454D-BDBB-CB2F6D66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10AF-FC48-44AD-AC42-B4AAE6F8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C679-CEC1-456F-9B7D-8CB6B24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10E1-7999-49EE-A3C1-6E1B1F54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6A51-D1ED-4E2F-BCC2-9430F1CD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8256-4B4C-411C-BB31-E6261A0C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20CD-F900-427A-B7E9-A3C04E37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73D-9EA0-4FD6-9ABC-400668E9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E41C-4A62-4572-AA27-46A596B3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5FB6-EE5C-4BFA-B60E-02602C3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54D3-ED3B-4168-BFD5-96AEFE6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BF78-5760-41EF-8A2E-AA576E7C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1E5F-9768-4EC2-855B-7358E05A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436-B745-4E72-A236-17EB9527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2AA-6C7B-4188-B3B5-C2C44AA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0BB-4C18-407C-9633-7B5B95C3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D1A-EF27-4FAB-AB39-FAEF5B7C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F01-0CE8-4544-92B5-A113DB22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994-EE68-4A6F-B7D4-96A4624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78B-1167-41CA-898F-3D3DE5C8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46A-7CB1-4C91-8BAC-2F8A895DF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70F1-39CA-43F0-8E28-E5190955B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</a:rPr>
              <a:t>Про результати проведення НМТ-2025  </a:t>
            </a: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Times New Roman"/>
              </a:rPr>
              <a:t>в Сахновщинській територіальній громаді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40360" y="4652640"/>
            <a:ext cx="47606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на ЗРАЖЕВСЬКА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ектор КУ “ЦПРПП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280" y="549360"/>
            <a:ext cx="84042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У 2025 році на НМТ було зареєстрован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106 із 15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ипускників ЗЗСО Сахновщинської селищної рад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280" y="549360"/>
            <a:ext cx="84042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зяли участь у НМ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104 випуск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2" descr=""/>
          <p:cNvPicPr/>
          <p:nvPr/>
        </p:nvPicPr>
        <p:blipFill>
          <a:blip r:embed="rId1"/>
          <a:stretch/>
        </p:blipFill>
        <p:spPr>
          <a:xfrm>
            <a:off x="712800" y="285840"/>
            <a:ext cx="8229600" cy="12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195640" y="1413000"/>
          <a:ext cx="6095880" cy="4464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11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ій б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їнська м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сторія Украї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712800" y="0"/>
            <a:ext cx="822960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611280" y="1197000"/>
          <a:ext cx="7848360" cy="5541840"/>
        </p:xfrm>
        <a:graphic>
          <a:graphicData uri="http://schemas.openxmlformats.org/drawingml/2006/table">
            <a:tbl>
              <a:tblPr/>
              <a:tblGrid>
                <a:gridCol w="2808360"/>
                <a:gridCol w="2736720"/>
                <a:gridCol w="2303280"/>
              </a:tblGrid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ількість учнів, що здавали НМТ з предм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ій б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їнськ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мец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ім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2" descr=""/>
          <p:cNvPicPr/>
          <p:nvPr/>
        </p:nvPicPr>
        <p:blipFill>
          <a:blip r:embed="rId1"/>
          <a:stretch/>
        </p:blipFill>
        <p:spPr>
          <a:xfrm>
            <a:off x="712800" y="255600"/>
            <a:ext cx="8229600" cy="1920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пускник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а література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пускни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2" descr=""/>
          <p:cNvPicPr/>
          <p:nvPr/>
        </p:nvPicPr>
        <p:blipFill>
          <a:blip r:embed="rId1"/>
          <a:stretch/>
        </p:blipFill>
        <p:spPr>
          <a:xfrm>
            <a:off x="712800" y="285840"/>
            <a:ext cx="8229600" cy="1701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Харченко Дарію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ипускниц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З “Сахновщинський ліцей № 1”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ка отримала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200 бал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 української 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2" descr=""/>
          <p:cNvPicPr/>
          <p:nvPr/>
        </p:nvPicPr>
        <p:blipFill>
          <a:blip r:embed="rId1"/>
          <a:stretch/>
        </p:blipFill>
        <p:spPr>
          <a:xfrm>
            <a:off x="712800" y="139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9280" y="980640"/>
            <a:ext cx="876456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ідвищити якість викладання навчальних предметів, зокр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Українська мов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атемати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сторія Украї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дійснювати системну роботу по підготовці дітей до НМТ (ЗНО), починаючи з 5 кла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Пользователь Windows</cp:lastModifiedBy>
  <cp:lastPrinted>2024-05-16T13:45:21Z</cp:lastPrinted>
  <dcterms:modified xsi:type="dcterms:W3CDTF">2025-08-25T14:15:19Z</dcterms:modified>
  <cp:revision>110</cp:revision>
  <dc:subject/>
  <dc:title>Слайд 1</dc:title>
</cp:coreProperties>
</file>