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DB33-325A-4C7A-824A-A6D3AC80A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90F2-C31E-433F-9641-DEDB8E4BB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68DA-3817-4757-B552-56CC70317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64D7-2F8F-4C61-90C9-288993BFA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A435E-F05A-493D-A019-6B8FF8DB7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1D84F-37C0-4769-9372-56BC74211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F22D4-9606-456D-B054-FF858568E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86BEE-52AB-4EF9-9492-C06D952D5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A1643-FADA-492A-A6CD-7CEE5F18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82CDE-A043-4CDE-B7EC-A2422D1FC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52083-596C-48E2-B21A-938A38AB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523A-3654-4341-8B08-53BDDC675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B9607-BA97-4D70-AF84-E19CB2E2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18096-A2E8-459D-8BB3-1049322D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10F2C-0912-479D-A905-C6C442573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B7D75-8379-472E-B408-CB54331D2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406C2-CA5F-4998-B36A-F7313CED7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6169-2A00-4396-A237-E522E65BB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9B4F-0E6A-4FFA-B4D8-929393973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03D1-7B47-439F-9EC1-7DEA1E292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FA68-CEB4-4171-9CAE-8E29F9C5A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0367-00A8-41B1-9827-04F408D2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828A-8096-43EF-9716-F0204349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7E5E-70F9-4306-83DA-2DF5EF03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19CEB-4216-4AA4-9096-FCD5312CDAF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0F86C-0A17-43BC-ACA5-F02122A8682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85880"/>
            <a:ext cx="7772400" cy="281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рганізація освітнього процесу у 2025/2026 навчальному роц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02920" y="3989520"/>
            <a:ext cx="5937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Times New Roman"/>
              </a:rPr>
              <a:t>Наталія ПРИХОДЬКО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Times New Roman"/>
              </a:rPr>
              <a:t>головний спеціаліст ВОКМ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3059280" y="5373720"/>
            <a:ext cx="3025440" cy="6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00"/>
                </a:solidFill>
                <a:latin typeface="Arial"/>
              </a:rPr>
              <a:t>Структура навчального ро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Навчальні заняття організовуються за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семестровою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системою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І семестр – з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01 вересня по 26 грудня 2025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ІІ семестр – з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12 січня по 29 травня 202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Упродовж навчального року для учнів проводяться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канікул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осінні –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27.10.2025-02.11.2025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зимові –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27.12.2025-11.01.2026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весняні –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30.03.2026-05.04.202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00"/>
                </a:solidFill>
                <a:latin typeface="Arial"/>
              </a:rPr>
              <a:t>Структура навчального ро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Педагогічною радою закладу освіти визначаються також тривалість навчального тижня, дня занять і відпочинк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У закладах освіти щоденно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о 9 годині 00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хвилин має проводитись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загальнонаціональна хвилина мовчання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(Лист МОН від 22.08.2025 № 1/17500-25 «Про загальнонаціональну хвилину мовчання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Форми  організації освітнього процес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Освітній процес організовується в безпечному освітньому середовищ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(форма організації освітнього процесу може змінюватися впродовж навчального року в залежності від безпекової ситуації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Форми  організації освітнього процес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За потреби заклад освіти може організовувати індивідуальні форми здобуття освіти (зокрема екстернатну, сімейну (домашню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Організація освітнього процесу не повинна призводити до перевантаження учнів та має забезпечувати безпечні, нешкідливі та здорові умови здобуття осві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Дистанційна форма навч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 метою забезпечення в закладі освіти єдиних підходів до створення електронного освітнього середовища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педагогічна рада схвалює використання конкретних інформаційно-телекомунікаційних систем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електронних освітніх платформ), комунікаційних онлайн сервісів та інструментів, за допомогою яких організовується освітній процес під час дистанційного навчанн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Щотижня заповнюємо гугл-таблицю з розкладом та посиланнями на платформи, де буде здійснюватись освітній проце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Освітня діяльні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Times New Roman"/>
              </a:rPr>
              <a:t>В  2025/2026 навчальному році продовжується  поетапне впровадження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Державного стандарту базової середньої освіти, відповідно учні 8 класів закладів загальної середньої освіти переходять на нову модель навчанн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Оцінювання результатів навча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Оцінювання здобувачів початкової осві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У 1-4 класах відповідно до Державного стандарту початкової освіти здійснюють формувальне і підсумкове оцінюванн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Методичні рекомендації щодо оцінювання результатів навчання учнів 1-4 класів закладів загальної середньої освіти (наказ МОН від 13.07.2021 № 81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Оцінювання результатів навча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Оцінювання учнів 5-7 класі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У 2024/2025 навчальному році оцінювання учнів 5-7 класів здійснюється відповідно до Методичних рекомендацій (наказ МОН від  02.08.2024 № 109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офіційному сайті Міністерства освіти і науки України розміщено посібники: «Оцінювання навчальних досягнень учнів з особливими освітніми потребами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Оцінювання результатів навча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Оцінювання учнів 9-11 класі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У 2024/2025 навчальному році оцінювання учнів 8-11 класів здійснюється за Критеріями оцінювання (наказ МОН молоді та спорту від 13.04.2011 №329) та Орієнтовними вимогами оцінювання навчальних досягнень учнів із базових дисциплін (наказ МОН від 21.08.2013 № 1222 із змінам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Семестрова та річна оцінки можуть підлягати коригуванню (пункт 3.2. Інструкції з ведення класного журналу (наказ МОН від 03.06.2008р. № 496) ; пункти 9,10 Порядку переведення учнів (вихованців) закладу загальної середньої освіти до наступного класу (наказ МОН від 14.07.2015 № 762 (зі змінам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УВАГА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Для здійснення входу до АІС “АІКОМ 2” необхідний КЕП юридичної особ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Необхідно перевірити чи не закінчився термін дії ваш КЕП юридичної особ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Організація освітнього процесу в ЗЗСО в 2025/2026 навчальному році здійснюватиметься відповідно д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колокольчик книги"/>
          <p:cNvPicPr/>
          <p:nvPr/>
        </p:nvPicPr>
        <p:blipFill>
          <a:blip r:embed="rId1"/>
          <a:stretch/>
        </p:blipFill>
        <p:spPr>
          <a:xfrm>
            <a:off x="4140360" y="2924280"/>
            <a:ext cx="3887640" cy="35290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00"/>
                </a:solidFill>
                <a:latin typeface="Arial"/>
              </a:rPr>
              <a:t>Дякую за увагу!</a:t>
            </a:r>
            <a:br>
              <a:rPr sz="4400"/>
            </a:br>
            <a:r>
              <a:rPr b="1" i="1" lang="uk-UA" sz="4400" spc="-1" strike="noStrike">
                <a:solidFill>
                  <a:srgbClr val="000000"/>
                </a:solidFill>
                <a:latin typeface="Arial"/>
              </a:rPr>
              <a:t>Бажаю натхнення та творчого успіх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Times New Roman"/>
              </a:rPr>
              <a:t>НОРМАТИВНЕ ЗАБЕЗПЕЧЕ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ЗАКОНИ УКРАЇ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«Про освіту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«Про повну загальну середню освіту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«Про внесення змін до деяких законів України в сфері освіти щодо врегулювання окремих питань освітньої діяльності в умовах воєнного стану (№ 7325 від 28.04.2022)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«Про функціонування української мови як державно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Arial"/>
              </a:rPr>
              <a:t>НОРМАТИВНЕ ЗАБЕЗПЕЧЕ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Постанова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Кабінету Міністрів України від 20 серпня 2025 року № 1003 «Про початок навчального року під час у воєнного стану в Україні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Санітарний  регламент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для закладів загальної середньої освіти, затвердженого наказом Міністерства охорони здоров’я України від 25.09.2020 № 2205, зареєстрованого в Міністерстві юстиції України 10 листопада 2020 року за № 1111/35394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Arial"/>
              </a:rPr>
              <a:t>НОРМАТИВНЕ ЗАБЕЗПЕЧЕ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Типові освітні програми для закладів загальної середньої освіт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Типові освітні програми для учнів 1-2 класів, 3-4 класів ЗЗСО (автор О.Я. Савченко) (наказ МОН від 12.08.2022   № 74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Типова освітня програма для 5-9 класів ЗЗСО – 5-8 класи (наказ МОН від 19.02.2021 № 235 </a:t>
            </a:r>
            <a:r>
              <a:rPr b="0" lang="uk-UA" sz="2400" spc="-1" strike="noStrike">
                <a:solidFill>
                  <a:srgbClr val="ff0000"/>
                </a:solidFill>
                <a:latin typeface="Times New Roman"/>
              </a:rPr>
              <a:t>в редакції наказу МОН України від 09.08.2024 №1120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Типова освітня програма ЗЗСО ІІ ступеня  9 класи (наказ МОН від 20.04.2018 № 40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Times New Roman"/>
              </a:rPr>
              <a:t>Типова освітня програма ЗЗСО ІІІ ступеня  (наказ МОН від 20.04.2018 № 408 у редакції наказу МОН від 20.06.2025 № 8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Arial"/>
              </a:rPr>
              <a:t>НОРМАТИВНЕ ЗАБЕЗПЕЧЕ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6840" y="1268280"/>
            <a:ext cx="84358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Накази Міністерства освіти і науки Украї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Times New Roman"/>
              </a:rPr>
              <a:t>Від 28.03.2022 № 274 «Про деякі питання здобуття загальної середньої освіти та освітнього процесу в умовах воєнного стану»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Times New Roman"/>
              </a:rPr>
              <a:t>Від 15.05.2023 № 563 “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Про затвердження методичних рекомендацій щодо окремих питань здобуття освіти в закладах загальної середньої освіти в умовах воєнного стану в Україні»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ff0000"/>
                </a:solidFill>
                <a:latin typeface="Times New Roman"/>
              </a:rPr>
              <a:t>Від 20.08.2025 № 1162 «Про внесення змін у Методичні рекомендації щодо окремих питань здобуття освіти в закладах загальної середньої освіти в умовах  воєнного стану в Україні</a:t>
            </a:r>
            <a:r>
              <a:rPr b="0" lang="uk-UA" sz="2400" spc="-1" strike="noStrike">
                <a:solidFill>
                  <a:srgbClr val="ff0000"/>
                </a:solidFill>
                <a:latin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Arial"/>
              </a:rPr>
              <a:t>НОРМАТИВНЕ ЗАБЕЗПЕЧЕ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6840" y="1268280"/>
            <a:ext cx="80024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Times New Roman"/>
              </a:rPr>
              <a:t>Лист МОН України від 13.08.2025 № 1/16828-25 «Про інструктивно-методичні рекомендації щодо викладання навчальних предметів / інтегрованих курсів у закладах загальної середньої освіти у 2025/2026 навчальному роц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Arial"/>
              </a:rPr>
              <a:t>НОРМАТИВНЕ ЗАБЕЗПЕЧЕ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Порядок ведення обліку дітей дошкільного, шкільного віку, вихованців та учнів (Постанова КМУ № 985 від 05.09.202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Порядок зарахування, відрахування та переведення учнів до державних та комунальних закладів освіти для здобуття повної загальної середньої освіти (наказ МОН від 20.05.2024 № 71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00"/>
                </a:solidFill>
                <a:latin typeface="Arial"/>
              </a:rPr>
              <a:t>Структура навчального ро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Times New Roman"/>
              </a:rPr>
              <a:t>Освітній процес у 2025/2026 навчальному році розпочнеться в День знань 1 вересня і триватиме до 30 червня 2026 року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3T08:38:35Z</dcterms:created>
  <dc:creator>Елена</dc:creator>
  <dc:description/>
  <dc:language>en-US</dc:language>
  <cp:lastModifiedBy>пк</cp:lastModifiedBy>
  <dcterms:modified xsi:type="dcterms:W3CDTF">2025-08-27T04:33:13Z</dcterms:modified>
  <cp:revision>236</cp:revision>
  <dc:subject/>
  <dc:title>Слайд 1</dc:title>
</cp:coreProperties>
</file>