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1B8-85F3-4972-BB14-F4227F34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6EA-C1FD-49B2-A70E-4AF77A1C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2910-0582-4CED-B1A9-AD7151CC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67D3-F266-4F5F-9640-E7A74601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69B5-72D8-47C5-AA14-66A300E7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555-3C4F-4FE6-A69A-BC3CCF23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3957-53B5-4BA7-926E-AC207344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DAD3-4AB5-4EBD-A9DF-B32A68D7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127-3385-48B1-A4AD-B3CE9FA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A40F-F878-46A0-8A5E-55001079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3C84-822E-448A-BEF1-78CAB94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092-F458-46A8-9532-FF4E0FBD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D915-1889-4A75-A760-BA04E30A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4E50-2926-4C6D-AF19-228560C5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EE01-D73C-4B1C-AC08-E2ACD81F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6F99-6219-4764-8CB0-891573BC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D31C-3C25-4E43-92A7-7ACE15F3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5414-AE80-494F-A0F9-73CEAF6E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B69-C915-4C2D-A7A0-8D99988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F8EE-2301-480F-B8C7-6A79C4F0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32D-6520-4CCA-850D-E4B5A799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273-8785-4933-9E61-A2270EA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2E0-D9F5-4499-A042-1E60CFC2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FAB-B4C3-4A50-AC51-2B1636A7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CE5F-DF08-4134-AB74-DD1F553163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9DBA-664C-42EF-AE01-E0C8B0F364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85880"/>
            <a:ext cx="7772400" cy="28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у 2025/2026 навчальному роц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2920" y="3989520"/>
            <a:ext cx="5937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Наталія ПРИХОДЬКО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Times New Roman"/>
              </a:rPr>
              <a:t>головний спеціаліст ВОКМ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059280" y="5373720"/>
            <a:ext cx="302544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авчальні заняття організовуються за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еместровою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системо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01 вересня по 26 грудня 2025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ІІ семестр – з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12 січня по 29 травня 20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продовж навчального року для учнів проводяться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каніку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сін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7.10.2025-02.11.202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имов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27.12.2025-11.01.2026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весняні –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30.03.2026-05.04.202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едагогічною радою закладу освіти визначаються також тривалість навчального тижня, дня занять і відпочинк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закладах освіти щоденно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 9 годині 00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хвилин має проводитись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гальнонаціональна хвилина мовча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(Лист МОН від 22.08.2025 № 1/17500-25 «Про загальнонаціональну хвилину мовчання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світній процес організовується в безпечному освітньому середовищ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форма організації освітнього процесу може змінюватися впродовж навчального року в залежності від безпекової ситуації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Форми  організації освітнього проце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За потреби заклад освіти може організовувати індивідуальні форми здобуття освіти (зокрема екстернатну, сімейну (домашн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Організація освітнього процесу не повинна призводити до перевантаження учнів та має забезпечувати безпечні, нешкідливі та здорові умови здобуття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танційна форма навч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 метою забезпечення в закладі освіти єдиних підходів до створення електронного освітнього середовищ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педагогічна рада схвалює використання конкретних інформаційно-телекомунікаційних сист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електронних освітніх платформ), комунікаційних онлайн сервісів та інструментів, за допомогою яких організовується освітній процес під час дистанційного навчан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отижня заповнюємо гугл-таблицю з розкладом та посиланнями на платформи, де буде здійснюватись освітній проц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світня діяльні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Times New Roman"/>
              </a:rPr>
              <a:t>В  2025/2026 навчальному році продовжується  поетапне впровадженн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ержавного стандарту базової середньої освіти, відповідно учні 8 класів закладів загальної середньої освіти переходять на нову модель навч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здобувачів початкової осві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У 1-4 класах відповідно до Державного стандарту початкової освіти здійснюють формувальне і підсумкове оцінюван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Методичні рекомендації щодо оцінювання результатів навчання учнів 1-4 класів закладів загальної середньої освіти (наказ МОН від 13.07.2021 № 8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5-7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5-7 класів здійснюється відповідно до Методичних рекомендацій (наказ МОН від  02.08.2024 № 1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офіційному сайті Міністерства освіти і науки України розміщено посібники: «Оцінювання навчальних досягнень учнів з особливими освітніми потребами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цінювання результатів навча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Оцінювання учнів 9-11 класі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 2024/2025 навчальному році оцінювання учнів 8-11 класів здійснюється за Критеріями оцінювання (наказ МОН молоді та спорту від 13.04.2011 №329) та Орієнтовними вимогами оцінювання навчальних досягнень учнів із базових дисциплін (наказ МОН від 21.08.2013 № 1222 із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еместрова та річна оцінки можуть підлягати коригуванню (пункт 3.2. Інструкції з ведення класного журналу (наказ МОН від 03.06.2008р. № 496) ; пункти 9,10 Порядку переведення учнів (вихованців) закладу загальної середньої освіти до наступного класу (наказ МОН від 14.07.2015 № 762 (зі змінам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ВАГА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дійснення входу до АІС “АІКОМ 2” необхідний КЕП юридичної ос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Необхідно перевірити чи не закінчився термін дії ваш КЕП юридичної особ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рганізація освітнього процесу в ЗЗСО в 2025/2026 навчальному році здійснюватиметься відповідно д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колокольчик книги"/>
          <p:cNvPicPr/>
          <p:nvPr/>
        </p:nvPicPr>
        <p:blipFill>
          <a:blip r:embed="rId1"/>
          <a:stretch/>
        </p:blipFill>
        <p:spPr>
          <a:xfrm>
            <a:off x="4140360" y="2924280"/>
            <a:ext cx="3887640" cy="35290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Бажаю натхнення та творчого успіх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ЗАКОНИ УКРАЇ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повну загальну середню освіту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внесення змін до деяких законів України в сфері освіти щодо врегулювання окремих питань освітньої діяльності в умовах воєнного стану (№ 7325 від 28.04.2022)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«Про функціонування української мови як державн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Постанова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Кабінету Міністрів України від 20 серпня 2025 року № 1003 «Про початок навчального року під час у воєнного стану в Україні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Санітарний  регламент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для закладів загальної середньої освіти, затвердженого наказом Міністерства охорони здоров’я України від 25.09.2020 № 2205, зареєстрованого в Міністерстві юстиції України 10 листопада 2020 року за № 1111/353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закладів загальної середньої осві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і освітні програми для учнів 1-2 класів, 3-4 класів ЗЗСО (автор О.Я. Савченко) (наказ МОН від 12.08.2022   № 7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для 5-9 класів ЗЗСО – 5-8 класи (наказ МОН від 19.02.2021 № 235 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в редакції наказу МОН України від 09.08.2024 №1120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ипова освітня програма ЗЗСО ІІ ступеня  9 класи (наказ МОН від 20.04.2018 № 4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Типова освітня програма ЗЗСО ІІІ ступеня  (наказ МОН від 20.04.2018 № 408 у редакції наказу МОН від 20.06.2025 № 8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Накази Міністерства освіти і науки Украї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28.03.2022 № 274 «Про деякі питання здобуття загальної середньої освіти та освітнього процесу в умовах воєнного стану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Times New Roman"/>
              </a:rPr>
              <a:t>Від 15.05.2023 № 563 “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о затвердження методичних рекомендацій щодо окремих питань здобуття освіти в закладах загальної середньої освіти в умовах воєнного стану в Україні»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ff0000"/>
                </a:solidFill>
                <a:latin typeface="Times New Roman"/>
              </a:rPr>
              <a:t>Від 20.08.2025 № 1162 «Про внесення змін у Методичні рекомендації щодо окремих питань здобуття освіти в закладах загальної середньої освіти в умовах  воєнного стану в Україні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268280"/>
            <a:ext cx="8002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Лист МОН України від 13.08.2025 № 1/16828-25 «Про інструктивно-методичні рекомендації щодо викладання навчальних предметів / інтегрованих курсів у закладах загальної середньої освіти у 2025/2026 навчальному роц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ведення обліку дітей дошкільного, шкільного віку, вихованців та учнів (Постанова КМУ № 985 від 05.09.20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Порядок зарахування, відрахування та переведення учнів до державних та комунальних закладів освіти для здобуття повної загальної середньої освіти (наказ МОН від 20.05.2024 № 7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Arial"/>
              </a:rPr>
              <a:t>Структура навчального ро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</a:rPr>
              <a:t>Освітній процес у 2025/2026 навчальному році розпочнеться в День знань 1 вересня і триватиме до 30 червня 2026 рок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08:38:35Z</dcterms:created>
  <dc:creator>Елена</dc:creator>
  <dc:description/>
  <dc:language>en-US</dc:language>
  <cp:lastModifiedBy>пк</cp:lastModifiedBy>
  <dcterms:modified xsi:type="dcterms:W3CDTF">2025-08-27T04:33:13Z</dcterms:modified>
  <cp:revision>236</cp:revision>
  <dc:subject/>
  <dc:title>Слайд 1</dc:title>
</cp:coreProperties>
</file>