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EB12-20F4-4BCC-B8FB-95B5A3EFD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16CB-E25F-47CC-B66A-573CCF55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3F6C-E1E8-41AA-94B6-BE7A3BB0B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84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216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8552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84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216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EB93-AE76-4597-A3BA-11D3ECBEB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7B89-4B7F-4F3D-A431-84E3B666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2CA8-05DA-4224-B5BF-8E47704E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76BE-229C-441E-A478-96584266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B9FF-797B-4857-A90E-AD398412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F39D-BF3E-42D6-9D07-7F617A25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14240" y="285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A93F-7C30-4137-BA96-3EFFFE1A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FF28-6091-47A2-AAAC-2C0AC42E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335D-EF08-494C-9489-3A763476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2645-6A12-4E00-BABE-CF3118B9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1C70-AF3C-40B1-A67C-C5C6EF2F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9B7F-6D64-47AC-98DD-7D38B184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C0EF-A4C1-4F83-8409-BD1DB2C2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384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216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8552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384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216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171D-CC8A-48E6-9265-766B6DC95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9469-D4AA-46C6-ACF0-2F3A93C3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CA7B-FE41-40ED-99CE-6051957C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6357-33A9-4701-B734-D5ADD1FA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285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4BCB-F66B-49FE-8402-66A5BEB9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ECF0-C11F-48BA-9363-A2F89DE2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AFCD-351C-4E0C-ABE7-F701E33F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D012-C96D-425C-A93C-B2498CED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8139-4F43-4DBD-8DE8-B5A2ECDC82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3EFA-C325-4F8D-B5CA-633576DF7C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71480" y="1142640"/>
            <a:ext cx="634356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Times New Roman"/>
              </a:rPr>
              <a:t>Про результати проведення НМТ-2025  </a:t>
            </a:r>
            <a:br>
              <a:rPr sz="3600"/>
            </a:br>
            <a:r>
              <a:rPr b="1" lang="uk-UA" sz="3600" spc="-1" strike="noStrike">
                <a:solidFill>
                  <a:srgbClr val="002060"/>
                </a:solidFill>
                <a:latin typeface="Times New Roman"/>
              </a:rPr>
              <a:t>в Сахновщинській територіальній громаді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140360" y="4652640"/>
            <a:ext cx="476064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на ЗРАЖЕВСЬКА</a:t>
            </a:r>
            <a:r>
              <a:rPr b="0" lang="ru-RU" sz="3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ректор КУ “ЦПРПП</a:t>
            </a:r>
            <a:r>
              <a:rPr b="0" lang="uk-UA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539280" y="549360"/>
            <a:ext cx="840420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У 2025 році на НМТ було зареєстрован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106 із 158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випускників ЗЗСО Сахновщинської селищної рад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9280" y="549360"/>
            <a:ext cx="840420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Взяли участь у НМ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104 випускни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2" descr=""/>
          <p:cNvPicPr/>
          <p:nvPr/>
        </p:nvPicPr>
        <p:blipFill>
          <a:blip r:embed="rId1"/>
          <a:stretch/>
        </p:blipFill>
        <p:spPr>
          <a:xfrm>
            <a:off x="712800" y="285840"/>
            <a:ext cx="8229600" cy="1287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2195640" y="1413000"/>
          <a:ext cx="6095880" cy="446400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1116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редній ба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16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раїнська мо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16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16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Історія Україн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2" descr=""/>
          <p:cNvPicPr/>
          <p:nvPr/>
        </p:nvPicPr>
        <p:blipFill>
          <a:blip r:embed="rId1"/>
          <a:stretch/>
        </p:blipFill>
        <p:spPr>
          <a:xfrm>
            <a:off x="712800" y="0"/>
            <a:ext cx="8229600" cy="142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611280" y="1197000"/>
          <a:ext cx="7848360" cy="5541840"/>
        </p:xfrm>
        <a:graphic>
          <a:graphicData uri="http://schemas.openxmlformats.org/drawingml/2006/table">
            <a:tbl>
              <a:tblPr/>
              <a:tblGrid>
                <a:gridCol w="2808360"/>
                <a:gridCol w="2736720"/>
                <a:gridCol w="2303280"/>
              </a:tblGrid>
              <a:tr h="1006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ількість учнів, що здавали НМТ з предме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ередній б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раїнська літера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глійська м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імецька м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ограф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9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іолог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імі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7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і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2" descr=""/>
          <p:cNvPicPr/>
          <p:nvPr/>
        </p:nvPicPr>
        <p:blipFill>
          <a:blip r:embed="rId1"/>
          <a:stretch/>
        </p:blipFill>
        <p:spPr>
          <a:xfrm>
            <a:off x="712800" y="255600"/>
            <a:ext cx="8229600" cy="1920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випускникі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країнська література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випускниц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2" descr=""/>
          <p:cNvPicPr/>
          <p:nvPr/>
        </p:nvPicPr>
        <p:blipFill>
          <a:blip r:embed="rId1"/>
          <a:stretch/>
        </p:blipFill>
        <p:spPr>
          <a:xfrm>
            <a:off x="712800" y="285840"/>
            <a:ext cx="8229600" cy="1701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Харченко Дарію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випускниц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КЗ “Сахновщинський ліцей № 1”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яка отримала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200 балі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Arial"/>
              </a:rPr>
              <a:t>з української мов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2" descr=""/>
          <p:cNvPicPr/>
          <p:nvPr/>
        </p:nvPicPr>
        <p:blipFill>
          <a:blip r:embed="rId1"/>
          <a:stretch/>
        </p:blipFill>
        <p:spPr>
          <a:xfrm>
            <a:off x="712800" y="13968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79280" y="980640"/>
            <a:ext cx="876456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Підвищити якість викладання навчальних предметів, зокре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Українська мов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Математик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Історія Україн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Здійснювати системну роботу по підготовці дітей до НМТ (ЗНО), починаючи з 5 клас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7:55:38Z</dcterms:created>
  <dc:creator>Comp</dc:creator>
  <dc:description/>
  <dc:language>en-US</dc:language>
  <cp:lastModifiedBy>Пользователь Windows</cp:lastModifiedBy>
  <cp:lastPrinted>2024-05-16T13:45:21Z</cp:lastPrinted>
  <dcterms:modified xsi:type="dcterms:W3CDTF">2025-08-25T14:15:19Z</dcterms:modified>
  <cp:revision>110</cp:revision>
  <dc:subject/>
  <dc:title>Слайд 1</dc:title>
</cp:coreProperties>
</file>