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9C5-CB80-494A-BF56-C678DC9C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0D9-4512-415E-ACA7-A17A44C7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251-EFDD-4A3D-A864-3854F88C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831-522D-47E7-8F8D-D8C99304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3C8-095D-4624-9AFB-6A64B042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DA9-BF29-4EC6-A731-DC80BAD9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4FE-B041-4F40-BD7B-E6E56383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CAB4-CB49-48B3-9B9B-26EE3E47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0A8-C077-4455-9743-B1966D46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158-0F7D-4050-AC9F-B2C0E910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FCA-D0A0-4505-8F75-DE988FFB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72E-8100-4D1A-9612-4F9319C4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E78C-873E-4027-9345-8795B1CE89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000000"/>
                </a:solidFill>
                <a:latin typeface="Monotype Corsiva"/>
              </a:rPr>
              <a:t>Про проведення обліку </a:t>
            </a:r>
            <a:br>
              <a:rPr sz="6000"/>
            </a:br>
            <a:r>
              <a:rPr b="0" i="1" lang="uk-UA" sz="6000" spc="-1" strike="noStrike">
                <a:solidFill>
                  <a:srgbClr val="000000"/>
                </a:solidFill>
                <a:latin typeface="Monotype Corsiva"/>
              </a:rPr>
              <a:t>продовження</a:t>
            </a: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uk-UA" sz="6000" spc="-1" strike="noStrike">
                <a:solidFill>
                  <a:srgbClr val="000000"/>
                </a:solidFill>
                <a:latin typeface="Monotype Corsiva"/>
              </a:rPr>
              <a:t>навчання та працевлаштування</a:t>
            </a:r>
            <a:r>
              <a:rPr b="0" i="1" lang="en-US" sz="6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uk-UA" sz="6000" spc="-1" strike="noStrike">
                <a:solidFill>
                  <a:srgbClr val="000000"/>
                </a:solidFill>
                <a:latin typeface="Monotype Corsiva"/>
              </a:rPr>
              <a:t>випускників </a:t>
            </a:r>
            <a:br>
              <a:rPr sz="6000"/>
            </a:br>
            <a:r>
              <a:rPr b="0" i="1" lang="uk-UA" sz="6000" spc="-1" strike="noStrike">
                <a:solidFill>
                  <a:srgbClr val="000000"/>
                </a:solidFill>
                <a:latin typeface="Monotype Corsiva"/>
              </a:rPr>
              <a:t>9-х, 11(12)-х класів </a:t>
            </a:r>
            <a:br>
              <a:rPr sz="6000"/>
            </a:br>
            <a:r>
              <a:rPr b="0" i="1" lang="uk-UA" sz="6000" spc="-1" strike="noStrike">
                <a:solidFill>
                  <a:srgbClr val="000000"/>
                </a:solidFill>
                <a:latin typeface="Arial"/>
              </a:rPr>
              <a:t>2025</a:t>
            </a:r>
            <a:r>
              <a:rPr b="0" i="1" lang="uk-UA" sz="6000" spc="-1" strike="noStrike">
                <a:solidFill>
                  <a:srgbClr val="000000"/>
                </a:solidFill>
                <a:latin typeface="Monotype Corsiva"/>
              </a:rPr>
              <a:t> ро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аказ відділу освіти, культури, молоді та спорту від 05.05.2025 №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i="1" lang="uk-UA" sz="4000" spc="-1" strike="noStrike">
                <a:solidFill>
                  <a:srgbClr val="0000ff"/>
                </a:solidFill>
                <a:latin typeface="Arial"/>
              </a:rPr>
              <a:t>Про проведення обліку продовження навчання та працевлашт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Arial"/>
              </a:rPr>
              <a:t>випускників 9-х, 11(12)-х класів у 2025 році”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Monotype Corsiva"/>
              </a:rPr>
              <a:t>Робота у закладі осві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) Призначити відповідальну особу за роботу з обліку подальшого навчання, працевлаштування випускників 9-х, 11(12)-х класів та ведення статистичних, електронних баз да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 10.05.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Monotype Corsiva"/>
              </a:rPr>
              <a:t>Робота у закладі осві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) У річному плані роботи здійснити детальний, грунтовний аналіз роботи за минулий навчальний рік (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орівняльний за три рок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 з питання працевлаштування випускників 9-х, 11-х класів та розробити розділ заходів із завданнями на наступний навчальний рі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) У жовтні видати наказ по закладу освіти “Про підсумки роботи з працевлаштування, подальшого навчання випускників 9-х, 11-х класів за 2025 рік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Monotype Corsiva"/>
              </a:rPr>
              <a:t>Робота у закладі осві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Відповідаль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66"/>
                </a:solidFill>
                <a:latin typeface="Arial"/>
              </a:rPr>
              <a:t>спільно з класними керівника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пускних класів створює електронну базу даних працевлаштування випускників (додаток 1 наказу відділу освіти від 05.05.2025 № 5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66"/>
                </a:solidFill>
                <a:latin typeface="Arial"/>
              </a:rPr>
              <a:t>спільно з класними керівника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пускних класів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до 10 вересн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ирають довідки про подальше навчання випускник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Подає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о відділу освіти, культури, молоді та спорту списки разом з довідками (копії довідок завірені в установленому порядку та систематизовані відповідно до списку)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Monotype Corsiva"/>
              </a:rPr>
              <a:t>Робота у закладі осві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Відповідаль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ільно з класними керівниками випускних класів складають списки випускників, які не працевлаштовані, в друкованому та електронному вигляді формату Microsoft Excel за формою додатка 2 (наказ № 50)  і надає до відділу освіти, культури, молоді та спорту разом з пояснювальними записками щодо причин не продовження навч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до 10.09.2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Monotype Corsiva"/>
              </a:rPr>
              <a:t>Робота у закладі осві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луховувати дане питання на нарадах при директорові, педрад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ідповідальний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є статистичні звіти за єдиною формою звітності щодо обліку подальшого навчання, працевлаштування випускників 9-х, 11 (12)-х класів і надає їх до відділу освіти, культури, молоді та 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 10.09.2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 10.10.2025 (остаточні дані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ВАГ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чні, які навчаються в професійно-технічних навчальних закладах, що не надають учням повної загальної середньої освіти,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овинні бути залучені до навчання за </a:t>
            </a:r>
            <a:r>
              <a:rPr b="1" i="1" lang="uk-UA" sz="3200" spc="-1" strike="noStrike" u="sng">
                <a:solidFill>
                  <a:srgbClr val="ff0066"/>
                </a:solidFill>
                <a:uFillTx/>
                <a:latin typeface="Arial"/>
              </a:rPr>
              <a:t>різними формами навч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ff"/>
                </a:solidFill>
                <a:latin typeface="Monotype Corsiva"/>
              </a:rPr>
              <a:t>ДЯКУЮ ЗА УВАГУ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5:44:52Z</dcterms:created>
  <dc:creator>User</dc:creator>
  <dc:description/>
  <dc:language>en-US</dc:language>
  <cp:lastModifiedBy>User</cp:lastModifiedBy>
  <dcterms:modified xsi:type="dcterms:W3CDTF">2025-05-06T06:18:39Z</dcterms:modified>
  <cp:revision>90</cp:revision>
  <dc:subject/>
  <dc:title>Про результати комплексного вивчення стану роботи відділу освіти Коломацької районної державної адміністрації з  питань  реалізації   державної політики  у  сфері  дошкільної, загальної  середньої  та  позашкільної  освіти</dc:title>
</cp:coreProperties>
</file>