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72828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2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84807"/>
                </a:solidFill>
                <a:latin typeface="Times New Roman"/>
                <a:ea typeface="Arial Unicode MS"/>
              </a:rPr>
              <a:t>Підсумки проведення НМТ минулих років та організація тестування у 2025 році </a:t>
            </a:r>
            <a:br>
              <a:rPr sz="4800"/>
            </a:br>
            <a:br>
              <a:rPr sz="4800"/>
            </a:br>
            <a:r>
              <a:rPr b="1" lang="uk-UA" sz="2400" spc="-1" strike="noStrike">
                <a:solidFill>
                  <a:srgbClr val="984807"/>
                </a:solidFill>
                <a:latin typeface="Calligraph"/>
                <a:ea typeface="Arial Unicode MS"/>
              </a:rPr>
              <a:t>Любов КУШНІР,</a:t>
            </a:r>
            <a:br>
              <a:rPr sz="2400"/>
            </a:br>
            <a:r>
              <a:rPr b="1" lang="uk-UA" sz="2400" spc="-1" strike="noStrike">
                <a:solidFill>
                  <a:srgbClr val="984807"/>
                </a:solidFill>
                <a:latin typeface="Calligraph"/>
                <a:ea typeface="Arial Unicode MS"/>
              </a:rPr>
              <a:t> консультант КУ “ЦПРПП”</a:t>
            </a: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51920"/>
            <a:ext cx="85309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НМТ -  2023 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a452a"/>
                </a:solidFill>
                <a:latin typeface="Calibri"/>
              </a:rPr>
              <a:t>Максимальну кількість (200 балів) цього року з предмета «Українська мова» набрала 1 учениця </a:t>
            </a:r>
            <a:r>
              <a:rPr b="1" lang="uk-UA" sz="3200" spc="-1" strike="noStrike">
                <a:solidFill>
                  <a:srgbClr val="4a452a"/>
                </a:solidFill>
                <a:latin typeface="Calibri"/>
              </a:rPr>
              <a:t>– Каніболоцька Юлія</a:t>
            </a:r>
            <a:r>
              <a:rPr b="0" lang="uk-UA" sz="3200" spc="-1" strike="noStrike">
                <a:solidFill>
                  <a:srgbClr val="4a452a"/>
                </a:solidFill>
                <a:latin typeface="Calibri"/>
              </a:rPr>
              <a:t>, учениця </a:t>
            </a:r>
            <a:r>
              <a:rPr b="1" lang="uk-UA" sz="3200" spc="-1" strike="noStrike">
                <a:solidFill>
                  <a:srgbClr val="4a452a"/>
                </a:solidFill>
                <a:latin typeface="Calibri"/>
              </a:rPr>
              <a:t>КЗ «Сахновщинський ліцей № 2»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3735"/>
                </a:solidFill>
                <a:latin typeface="Cassandra"/>
              </a:rPr>
              <a:t>НМТ -  2024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c00000"/>
                </a:solidFill>
                <a:uFillTx/>
                <a:latin typeface="Calibri"/>
              </a:rPr>
              <a:t>3 обов</a:t>
            </a:r>
            <a:r>
              <a:rPr b="1" lang="uk-UA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ꞌ</a:t>
            </a:r>
            <a:r>
              <a:rPr b="1" lang="uk-UA" sz="4400" spc="-1" strike="noStrike" u="sng">
                <a:solidFill>
                  <a:srgbClr val="c00000"/>
                </a:solidFill>
                <a:uFillTx/>
                <a:latin typeface="Calibri"/>
              </a:rPr>
              <a:t>язкові предмети: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Українська мова;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Математика;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Історія України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c00000"/>
                </a:solidFill>
                <a:uFillTx/>
                <a:latin typeface="Calibri"/>
              </a:rPr>
              <a:t>1 предмет за вибором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3735"/>
                </a:solidFill>
                <a:latin typeface="Cassandra"/>
              </a:rPr>
              <a:t>НМТ -  2024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73080" y="1593360"/>
            <a:ext cx="8928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99 із 134 випускників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 шкіл Сахновщинської громади складали мультипредметний тест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lvl="2" marL="914400" algn="ctr"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720" y="81000"/>
            <a:ext cx="79200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ssandra"/>
              </a:rPr>
              <a:t>рейтинг ЗЗСО Харківської області за підсумками </a:t>
            </a:r>
            <a:r>
              <a:rPr b="1" lang="uk-UA" sz="3200" spc="-1" strike="noStrike">
                <a:solidFill>
                  <a:srgbClr val="c00000"/>
                </a:solidFill>
                <a:latin typeface="Cassandra"/>
              </a:rPr>
              <a:t>НМТ-2024: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73080" y="1197000"/>
          <a:ext cx="9001080" cy="4753080"/>
        </p:xfrm>
        <a:graphic>
          <a:graphicData uri="http://schemas.openxmlformats.org/drawingml/2006/table">
            <a:tbl>
              <a:tblPr/>
              <a:tblGrid>
                <a:gridCol w="849240"/>
                <a:gridCol w="5570640"/>
                <a:gridCol w="668520"/>
                <a:gridCol w="749160"/>
                <a:gridCol w="581040"/>
                <a:gridCol w="582480"/>
              </a:tblGrid>
              <a:tr h="5968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це у громад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ЗЗ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це у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л ЗНО (НМ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ав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1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Гришівський ліц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Лиг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воолександр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терин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9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2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евченк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авежнян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5" name="Прямоугольник 3"/>
          <p:cNvSpPr/>
          <p:nvPr/>
        </p:nvSpPr>
        <p:spPr>
          <a:xfrm>
            <a:off x="1368360" y="5869080"/>
            <a:ext cx="723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і заклади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гаточернещинський ліцей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хновщинської селищної ради Красноградського району Харківської області та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іївський ліцей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хновщинської селищної ради Красноградського району Харківської області у вибірку НЕ увішли (по 3 учасни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81000"/>
            <a:ext cx="79200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ssandra"/>
              </a:rPr>
              <a:t>рейтинг ЗЗСО м. Харків та Харківської області за підсумками </a:t>
            </a:r>
            <a:r>
              <a:rPr b="1" lang="uk-UA" sz="3200" spc="-1" strike="noStrike">
                <a:solidFill>
                  <a:srgbClr val="c00000"/>
                </a:solidFill>
                <a:latin typeface="Cassandra"/>
              </a:rPr>
              <a:t>НМТ-2024: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1368360" y="5869080"/>
            <a:ext cx="723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і заклади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гаточернещинський ліцей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хновщинської селищної ради Красноградського району Харківської області та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іївський ліцей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хновщинської селищної ради Красноградського району Харківської області у вибірку НЕ увішли (по 3 учасни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675640" cy="4672080"/>
        </p:xfrm>
        <a:graphic>
          <a:graphicData uri="http://schemas.openxmlformats.org/drawingml/2006/table">
            <a:tbl>
              <a:tblPr/>
              <a:tblGrid>
                <a:gridCol w="817560"/>
                <a:gridCol w="6492960"/>
                <a:gridCol w="644400"/>
                <a:gridCol w="720720"/>
              </a:tblGrid>
              <a:tr h="51912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це у громад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ЗЗ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це у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л ЗНО (НМ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1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Гришівський ліце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Лигівський ліцей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воолександрівський ліцей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теринівський ліцей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2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евченківський ліцей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авежнянський ліцей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ssandra"/>
              </a:rPr>
              <a:t>Рейтинг по ОБОВ'ЯЗКОВИХ предметах </a:t>
            </a:r>
            <a:br>
              <a:rPr sz="2000"/>
            </a:br>
            <a:r>
              <a:rPr b="1" lang="uk-UA" sz="2000" spc="-1" strike="noStrike">
                <a:solidFill>
                  <a:srgbClr val="c00000"/>
                </a:solidFill>
                <a:latin typeface="Cassandra"/>
              </a:rPr>
              <a:t>у розрізі ЗЗСО Сахновщинської громади за підсумками 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Cassandra"/>
              </a:rPr>
              <a:t>НМТ-2024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10" name="Объект 6"/>
          <p:cNvGraphicFramePr/>
          <p:nvPr/>
        </p:nvGraphicFramePr>
        <p:xfrm>
          <a:off x="417600" y="1074600"/>
          <a:ext cx="8597880" cy="57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074600"/>
                    <a:ext cx="859788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ssandra"/>
              </a:rPr>
              <a:t>Рейтинг по ОБОВ'ЯЗКОВИХ предметах </a:t>
            </a:r>
            <a:br>
              <a:rPr sz="2000"/>
            </a:br>
            <a:r>
              <a:rPr b="1" lang="uk-UA" sz="2000" spc="-1" strike="noStrike">
                <a:solidFill>
                  <a:srgbClr val="c00000"/>
                </a:solidFill>
                <a:latin typeface="Cassandra"/>
              </a:rPr>
              <a:t>у розрізі ЗЗСО Сахновщинської громади за підсумками 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Cassandra"/>
              </a:rPr>
              <a:t>НМТ-2024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13" name="Объект 4"/>
          <p:cNvGraphicFramePr/>
          <p:nvPr/>
        </p:nvGraphicFramePr>
        <p:xfrm>
          <a:off x="307800" y="1109520"/>
          <a:ext cx="8598240" cy="57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109520"/>
                    <a:ext cx="859824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ssandra"/>
              </a:rPr>
              <a:t>Рейтинг по ОБОВ'ЯЗКОВИХ предметах </a:t>
            </a:r>
            <a:br>
              <a:rPr sz="2000"/>
            </a:br>
            <a:r>
              <a:rPr b="1" lang="uk-UA" sz="2000" spc="-1" strike="noStrike">
                <a:solidFill>
                  <a:srgbClr val="c00000"/>
                </a:solidFill>
                <a:latin typeface="Cassandra"/>
              </a:rPr>
              <a:t>у розрізі ЗЗСО Сахновщинської громади за підсумками 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Cassandra"/>
              </a:rPr>
              <a:t>НМТ-2024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16" name="Объект 5"/>
          <p:cNvGraphicFramePr/>
          <p:nvPr/>
        </p:nvGraphicFramePr>
        <p:xfrm>
          <a:off x="57240" y="965160"/>
          <a:ext cx="895824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965160"/>
                    <a:ext cx="8958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ередній бал по предметах за підсумками НМТ-2024 </a:t>
            </a:r>
            <a:br>
              <a:rPr sz="20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розрізі закладів загальної середньої освіти </a:t>
            </a:r>
            <a:br>
              <a:rPr sz="20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ахновщинської громад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19" name="Объект 4"/>
          <p:cNvGraphicFramePr/>
          <p:nvPr/>
        </p:nvGraphicFramePr>
        <p:xfrm>
          <a:off x="307800" y="1325520"/>
          <a:ext cx="8598240" cy="53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25520"/>
                    <a:ext cx="859824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ейтинг по предметах ЗА ВИБОРОМ</a:t>
            </a:r>
            <a:br>
              <a:rPr sz="16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розрізі ЗЗСО Сахновщинської громад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22" name="Объект 5"/>
          <p:cNvGraphicFramePr/>
          <p:nvPr/>
        </p:nvGraphicFramePr>
        <p:xfrm>
          <a:off x="344520" y="930240"/>
          <a:ext cx="8561520" cy="57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930240"/>
                    <a:ext cx="85615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1015920"/>
            <a:ext cx="853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953735"/>
                </a:solidFill>
                <a:uFillTx/>
                <a:latin typeface="Calibri"/>
              </a:rPr>
              <a:t>2021/2022;</a:t>
            </a: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953735"/>
                </a:solidFill>
                <a:uFillTx/>
                <a:latin typeface="Calibri"/>
              </a:rPr>
              <a:t>2022/2023;</a:t>
            </a: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953735"/>
                </a:solidFill>
                <a:uFillTx/>
                <a:latin typeface="Calibri"/>
              </a:rPr>
              <a:t>2023/2024</a:t>
            </a: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953735"/>
                </a:solidFill>
                <a:uFillTx/>
                <a:latin typeface="Calibri"/>
              </a:rPr>
              <a:t>ЗНО – скасовано, </a:t>
            </a: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953735"/>
                </a:solidFill>
                <a:uFillTx/>
                <a:latin typeface="Calibri"/>
              </a:rPr>
              <a:t>натомість  впроваджено НМТ</a:t>
            </a: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953735"/>
                </a:solidFill>
                <a:uFillTx/>
                <a:latin typeface="Calibri"/>
              </a:rPr>
              <a:t>(національний мультипредметний тест)</a:t>
            </a: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934920" y="0"/>
            <a:ext cx="7920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4a452a"/>
                </a:solidFill>
                <a:latin typeface="Cassandra"/>
              </a:rPr>
              <a:t>Відміна ДПА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ейтинг по предметах ЗА ВИБОРОМ</a:t>
            </a:r>
            <a:br>
              <a:rPr sz="16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розрізі ЗЗСО Сахновщинської громад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125" name="Диаграмма 5" descr=""/>
          <p:cNvPicPr/>
          <p:nvPr/>
        </p:nvPicPr>
        <p:blipFill>
          <a:blip r:embed="rId1"/>
          <a:stretch/>
        </p:blipFill>
        <p:spPr>
          <a:xfrm>
            <a:off x="-50760" y="147600"/>
            <a:ext cx="8994600" cy="656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ейтинг по предметах ЗА ВИБОРОМ</a:t>
            </a:r>
            <a:br>
              <a:rPr sz="16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розрізі ЗЗСО Сахновщинської громад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27" name="Объект 5"/>
          <p:cNvGraphicFramePr/>
          <p:nvPr/>
        </p:nvGraphicFramePr>
        <p:xfrm>
          <a:off x="128520" y="930240"/>
          <a:ext cx="8777520" cy="59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930240"/>
                    <a:ext cx="877752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ейтинг по предметах ЗА ВИБОРОМ</a:t>
            </a:r>
            <a:br>
              <a:rPr sz="16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розрізі ЗЗСО Сахновщинської громад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30" name="Объект 4"/>
          <p:cNvGraphicFramePr/>
          <p:nvPr/>
        </p:nvGraphicFramePr>
        <p:xfrm>
          <a:off x="165240" y="965160"/>
          <a:ext cx="8740800" cy="57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965160"/>
                    <a:ext cx="87408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ейтинг по предметах ЗА ВИБОРОМ</a:t>
            </a:r>
            <a:br>
              <a:rPr sz="16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розрізі ЗЗСО Сахновщинської громад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33" name="Объект 5"/>
          <p:cNvGraphicFramePr/>
          <p:nvPr/>
        </p:nvGraphicFramePr>
        <p:xfrm>
          <a:off x="344520" y="893880"/>
          <a:ext cx="8561520" cy="56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893880"/>
                    <a:ext cx="856152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ередній бал по предметах за підсумками НМТ-2024 </a:t>
            </a:r>
            <a:br>
              <a:rPr sz="16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розрізі закладів загальної середньої освіти Сахновщинської громад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36" name="Объект 4"/>
          <p:cNvGraphicFramePr/>
          <p:nvPr/>
        </p:nvGraphicFramePr>
        <p:xfrm>
          <a:off x="200160" y="1038240"/>
          <a:ext cx="8705880" cy="56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038240"/>
                    <a:ext cx="870588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6720" y="26028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НМТ - 2024</a:t>
            </a:r>
            <a:endParaRPr b="0" lang="en-US" sz="4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a452a"/>
                </a:solidFill>
                <a:latin typeface="Calibri"/>
              </a:rPr>
              <a:t>Максимальну кількість балів </a:t>
            </a:r>
            <a:r>
              <a:rPr b="1" lang="uk-UA" sz="3200" spc="-1" strike="noStrike">
                <a:solidFill>
                  <a:srgbClr val="4a452a"/>
                </a:solidFill>
                <a:latin typeface="Calibri"/>
              </a:rPr>
              <a:t>(200)</a:t>
            </a:r>
            <a:r>
              <a:rPr b="0" lang="uk-UA" sz="3200" spc="-1" strike="noStrike">
                <a:solidFill>
                  <a:srgbClr val="4a452a"/>
                </a:solidFill>
                <a:latin typeface="Calibri"/>
              </a:rPr>
              <a:t> у цьому році </a:t>
            </a:r>
            <a:r>
              <a:rPr b="1" lang="uk-UA" sz="3200" spc="-1" strike="noStrike">
                <a:solidFill>
                  <a:srgbClr val="4a452a"/>
                </a:solidFill>
                <a:latin typeface="Calibri"/>
              </a:rPr>
              <a:t>не було отримано</a:t>
            </a:r>
            <a:r>
              <a:rPr b="0" lang="uk-UA" sz="3200" spc="-1" strike="noStrike">
                <a:solidFill>
                  <a:srgbClr val="4a452a"/>
                </a:solidFill>
                <a:latin typeface="Calibri"/>
              </a:rPr>
              <a:t> з жодного предмету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Cassandra"/>
              </a:rPr>
              <a:t>НМТ-2025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34920" y="1015920"/>
            <a:ext cx="7920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ЗАКОН УКРАЇНИ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від 29.10.2024 № 4034-IX «Про внесення змін до деяких законів України щодо державної підсумкової атестації та вступної кампанії 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2025 року»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ssandra"/>
              </a:rPr>
              <a:t>НМТ-2025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000" y="1697040"/>
            <a:ext cx="784836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КАЗ МІНІСТЕРСТВА ОСВІТИ І НАУКИ УКРАЇНИ та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ІНІСТЕРСТВА ВНУТРІШНІХ СПРАВ УКРАЇН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7ab7"/>
                </a:solidFill>
                <a:latin typeface="Times New Roman"/>
                <a:ea typeface="Times New Roman"/>
              </a:rPr>
              <a:t>від 21.03.2024 N 379/182 «Про затвердження Порядку використання технічних пристроїв, необхідних для здійснення контролю за проведенням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7ab7"/>
                </a:solidFill>
                <a:latin typeface="Times New Roman"/>
                <a:ea typeface="Times New Roman"/>
              </a:rPr>
              <a:t>зовнішнього незалежного оцінювання»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ssandra"/>
              </a:rPr>
              <a:t>НМТ-2025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6000" y="1176120"/>
            <a:ext cx="8640720" cy="55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НАКАЗИ МІНІСТЕРСТВА ОСВІТИ І НАУКИ УКРАЇНИ: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від 19.11.2024 №1629 «Деякі питання проведення у 2025 році національного мультипредметного тесту»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від 21.12.2023 № 1547 «Про затвердження Порядку проведення національного мультипредметного тесту»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від 29.08.2016 №1027/900 (спільний з МОЗ) «Деякі питання участі в зовнішньому незалежному оцінюванні та вступних іспитах осіб, які мають певні захворювання та/або патологічні стани, інвалідність» 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ssandra"/>
              </a:rPr>
              <a:t>НМТ-2025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1280" y="1374480"/>
            <a:ext cx="8712360" cy="461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libri"/>
              </a:rPr>
              <a:t>ЛИСТИ МІНІСТЕРСТВА ОСВІТИ І НАУКИ УКРАЇНИ: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лист МОН від 30.05.2024 №1/9568-24 «Щодо введення нового Правопису»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Cassandra"/>
              </a:rPr>
              <a:t>НМТ -  </a:t>
            </a:r>
            <a:r>
              <a:rPr b="1" lang="ru-RU" sz="6000" spc="-1" strike="noStrike">
                <a:solidFill>
                  <a:srgbClr val="953735"/>
                </a:solidFill>
                <a:latin typeface="Cassandra"/>
              </a:rPr>
              <a:t>2022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04640"/>
            <a:ext cx="8530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53735"/>
                </a:solidFill>
                <a:uFillTx/>
                <a:latin typeface="Calibri"/>
              </a:rPr>
              <a:t>3 обов</a:t>
            </a:r>
            <a:r>
              <a:rPr b="1" lang="uk-UA" sz="40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ꞌ</a:t>
            </a:r>
            <a:r>
              <a:rPr b="1" lang="uk-UA" sz="4000" spc="-1" strike="noStrike" u="sng">
                <a:solidFill>
                  <a:srgbClr val="953735"/>
                </a:solidFill>
                <a:uFillTx/>
                <a:latin typeface="Calibri"/>
              </a:rPr>
              <a:t>язкові предмети: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53735"/>
                </a:solidFill>
                <a:latin typeface="Calibri"/>
              </a:rPr>
              <a:t>Українська мова;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53735"/>
                </a:solidFill>
                <a:latin typeface="Calibri"/>
              </a:rPr>
              <a:t>Математика;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53735"/>
                </a:solidFill>
                <a:latin typeface="Calibri"/>
              </a:rPr>
              <a:t>Історія Україн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ssandra"/>
              </a:rPr>
              <a:t>НМТ-2025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34920" y="1588320"/>
            <a:ext cx="7920000" cy="42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Обов</a:t>
            </a:r>
            <a:r>
              <a:rPr b="1" lang="ru-RU" sz="4000" spc="-1" strike="noStrike">
                <a:solidFill>
                  <a:srgbClr val="604a7b"/>
                </a:solidFill>
                <a:latin typeface="Calibri"/>
                <a:ea typeface="Calibri"/>
              </a:rPr>
              <a:t>'</a:t>
            </a: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язкові предмети</a:t>
            </a: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04a7b"/>
                </a:solidFill>
                <a:latin typeface="Calibri"/>
              </a:rPr>
              <a:t>Українська мова;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04a7b"/>
                </a:solidFill>
                <a:latin typeface="Calibri"/>
              </a:rPr>
              <a:t>Математика;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04a7b"/>
                </a:solidFill>
                <a:latin typeface="Calibri"/>
              </a:rPr>
              <a:t>Історія Україн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ssandra"/>
              </a:rPr>
              <a:t>НМТ-2025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34920" y="851760"/>
            <a:ext cx="7920000" cy="57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Предмети за вибором</a:t>
            </a: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українська література,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іноземна мова,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біологія,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хімія,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фізика,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географія. </a:t>
            </a: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ssandra"/>
              </a:rPr>
              <a:t>НМТ-2025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34920" y="1137960"/>
            <a:ext cx="792000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Модель проведення передбачає, що учасник / учасниця всі чотири предметних тести проходитиме в один день у два етапи: перший етап (120 хвилин) — виконання завдань з української мови та математики, другий етап (120 хвилин) — виконання завдань з історії України та навчального предмета на вибір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4920" y="81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c00000"/>
              </a:solidFill>
              <a:latin typeface="Cassand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34920" y="3107880"/>
            <a:ext cx="7920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56" name="Picture 2" descr="https://testportal.gov.ua/wp-content/uploads/2024/12/2025-6-1024x741.png"/>
          <p:cNvPicPr/>
          <p:nvPr/>
        </p:nvPicPr>
        <p:blipFill>
          <a:blip r:embed="rId1"/>
          <a:stretch/>
        </p:blipFill>
        <p:spPr>
          <a:xfrm>
            <a:off x="-289080" y="-200160"/>
            <a:ext cx="9753840" cy="705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58920" y="367920"/>
            <a:ext cx="8426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4a452a"/>
                </a:solidFill>
                <a:latin typeface="Calibri"/>
              </a:rPr>
              <a:t>Дякую за увагу!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971640" y="1125360"/>
            <a:ext cx="73454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Cassandra"/>
              </a:rPr>
              <a:t>НМТ -  </a:t>
            </a:r>
            <a:r>
              <a:rPr b="1" lang="ru-RU" sz="6000" spc="-1" strike="noStrike">
                <a:solidFill>
                  <a:srgbClr val="953735"/>
                </a:solidFill>
                <a:latin typeface="Cassandra"/>
              </a:rPr>
              <a:t>2022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304640"/>
            <a:ext cx="8530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uk-UA" sz="3200" spc="-1" strike="noStrike" u="sng">
                <a:solidFill>
                  <a:srgbClr val="c00000"/>
                </a:solidFill>
                <a:uFillTx/>
                <a:latin typeface="Calibri"/>
              </a:rPr>
              <a:t>із 111 випускників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ЗЗСО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Сахновщинської громад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зареєструвались на участь у національному мультипредметному тесті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c00000"/>
                </a:solidFill>
                <a:uFillTx/>
                <a:latin typeface="Calibri"/>
              </a:rPr>
              <a:t>85 осіб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2536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ssandra"/>
              </a:rPr>
              <a:t>РЕЙТИНГ НМТ -  2022 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944640"/>
          <a:ext cx="8496360" cy="4852800"/>
        </p:xfrm>
        <a:graphic>
          <a:graphicData uri="http://schemas.openxmlformats.org/drawingml/2006/table">
            <a:tbl>
              <a:tblPr/>
              <a:tblGrid>
                <a:gridCol w="479520"/>
                <a:gridCol w="6497640"/>
                <a:gridCol w="798480"/>
                <a:gridCol w="720720"/>
              </a:tblGrid>
              <a:tr h="92700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-це у гро-мад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ЗЗ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це у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л ЗНО (НМ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евченківський ліце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воолександрівський ліце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6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1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2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6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теринівський ліце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21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Лигівський ліце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6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Гришівський ліце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Є (менше 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авежнянський ліце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Є (менше 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5" name="Прямоугольник 5"/>
          <p:cNvSpPr/>
          <p:nvPr/>
        </p:nvSpPr>
        <p:spPr>
          <a:xfrm>
            <a:off x="1368360" y="5769000"/>
            <a:ext cx="777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і заклади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гаточернещинський ліцей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хновщинської селищної ради Красноградського району Харківської області та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іївський ліцей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хновщинської селищної ради Красноградського району Харківської області у вибірку НЕ увійш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ssandra"/>
              </a:rPr>
              <a:t>200 балів НМТ-2022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4920" y="1593360"/>
            <a:ext cx="7920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1160640"/>
          <a:ext cx="7921800" cy="4906800"/>
        </p:xfrm>
        <a:graphic>
          <a:graphicData uri="http://schemas.openxmlformats.org/drawingml/2006/table">
            <a:tbl>
              <a:tblPr/>
              <a:tblGrid>
                <a:gridCol w="1030320"/>
                <a:gridCol w="3861000"/>
                <a:gridCol w="1123920"/>
                <a:gridCol w="1030320"/>
                <a:gridCol w="876240"/>
              </a:tblGrid>
              <a:tr h="958680"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 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ЗЗС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І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ника НМ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ількість бал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 rowSpan="3"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1»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енко Дар'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м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сторія Украї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0440"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2»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рцев В'ячес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6440"/>
                          <a:tab algn="ctr" pos="60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2600"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теринівський ліцей»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іріченко Тетя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сторія Украї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Лигівський ліцей»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чко Юл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м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9" name="Rectangle 6"/>
          <p:cNvSpPr/>
          <p:nvPr/>
        </p:nvSpPr>
        <p:spPr>
          <a:xfrm>
            <a:off x="611280" y="392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452a"/>
                </a:solidFill>
                <a:latin typeface="Cassandra"/>
              </a:rPr>
              <a:t> </a:t>
            </a:r>
            <a:r>
              <a:rPr b="1" lang="ru-RU" sz="4800" spc="-1" strike="noStrike">
                <a:solidFill>
                  <a:srgbClr val="953735"/>
                </a:solidFill>
                <a:latin typeface="Cassandra"/>
              </a:rPr>
              <a:t>НМТ -  2023 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304640"/>
            <a:ext cx="8530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uk-UA" sz="4000" spc="-1" strike="noStrike" u="sng">
                <a:solidFill>
                  <a:srgbClr val="c00000"/>
                </a:solidFill>
                <a:uFillTx/>
                <a:latin typeface="Calibri"/>
              </a:rPr>
              <a:t>2 обов</a:t>
            </a:r>
            <a:r>
              <a:rPr b="1" lang="uk-UA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ꞌ</a:t>
            </a:r>
            <a:r>
              <a:rPr b="1" lang="uk-UA" sz="4000" spc="-1" strike="noStrike" u="sng">
                <a:solidFill>
                  <a:srgbClr val="c00000"/>
                </a:solidFill>
                <a:uFillTx/>
                <a:latin typeface="Calibri"/>
              </a:rPr>
              <a:t>язкові предмети: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Українська мова;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атематика;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c00000"/>
                </a:solidFill>
                <a:uFillTx/>
                <a:latin typeface="Calibri"/>
              </a:rPr>
              <a:t>1 предмет за вибором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a452a"/>
                </a:solidFill>
                <a:latin typeface="Cassandra"/>
              </a:rPr>
              <a:t> </a:t>
            </a:r>
            <a:r>
              <a:rPr b="1" lang="ru-RU" sz="6000" spc="-1" strike="noStrike">
                <a:solidFill>
                  <a:srgbClr val="953735"/>
                </a:solidFill>
                <a:latin typeface="Cassandra"/>
              </a:rPr>
              <a:t>НМТ -  2023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304640"/>
            <a:ext cx="8530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із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134 випускників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 закладів загальної середньої освіти Сахновщинської селищної ради на участь в національному мультипредметному тесті зареєструвались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111 осіб (83 %),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 взяли участь у тестуванні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109 осіб (81%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51920"/>
            <a:ext cx="85309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РЕЙТИНГ НМТ -  2023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5280" y="657360"/>
          <a:ext cx="8496360" cy="6200640"/>
        </p:xfrm>
        <a:graphic>
          <a:graphicData uri="http://schemas.openxmlformats.org/drawingml/2006/table">
            <a:tbl>
              <a:tblPr/>
              <a:tblGrid>
                <a:gridCol w="787320"/>
                <a:gridCol w="6215040"/>
                <a:gridCol w="785880"/>
                <a:gridCol w="708120"/>
              </a:tblGrid>
              <a:tr h="68868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ц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 громад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ЗЗ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сце у обла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л ЗНО (НМ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904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1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904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евченк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Є (менше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904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Гриш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Є (менше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904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хновщинський ліцей № 2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904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терин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868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Лигів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904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воолександрівський ліц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9040"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нальний заклад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авежнянський ліце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новщинської селищної ради Красноградського району Харківської обла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Є (менше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Пользователь Windows</cp:lastModifiedBy>
  <cp:lastPrinted>2024-12-24T14:17:56Z</cp:lastPrinted>
  <dcterms:modified xsi:type="dcterms:W3CDTF">2024-12-26T06:27:14Z</dcterms:modified>
  <cp:revision>138</cp:revision>
  <dc:subject/>
  <dc:title>Слайд 1</dc:title>
</cp:coreProperties>
</file>