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42D-7556-47AB-93EC-30DE581A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73C-209A-4482-BC11-41F4E6A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2ED-61F8-44B4-A997-D1016F10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073-0DEB-408D-8B4E-37F4184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F995-F8E7-448C-B616-52397012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A4A6-0382-419D-A3A7-0B5761B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4DDE-0F06-4C89-A722-16332DA2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23F2-4298-4C93-A1A3-C294C7F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49ED-B7E7-4B28-9D03-025D5AA8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F11B-817A-481A-AF37-B7796197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DB29-F606-4ABA-AC01-FFD4BC9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17E-B3AC-4F0A-B578-97C2432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298-D611-44F4-BB2A-6A5F855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F447-A721-442A-9EB4-B0A5A99C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984-A644-4B1A-9BCF-2985234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F60-6362-4C7C-B3C5-85AE3787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2EA-7682-4580-B9EA-1C0159B7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BD19-C6F9-460F-9084-F8A04063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91C3-6557-49BF-8DC6-6B77944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97EB-3000-43F4-8F6E-83508F8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D61D-A4CC-4963-8319-BCEE3C1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FBC3-AC81-4AD1-AAD4-E833E2A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58E-927B-4CC6-9193-64AD792A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3889-7491-4F4F-BD41-2BFCC4A1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74DE-BE1D-4F37-AFA9-363587D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07A3-36CC-4AB0-BD24-BB79D75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FFAA-5B4E-4EBE-822E-3A9B53F1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5A37-168F-4348-B013-4A42FB7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40E3-28AB-41A7-9912-12940C09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3F2E-7FDF-4550-8E67-FF607E1F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93CA-AA29-4ACA-B319-9FF6236B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6A5C-7CE3-4209-8F87-69DB253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0435-04DF-4655-AF1B-760C228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BC8-A6EC-47CB-BA28-9FCAAFB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58C6-64A0-4D73-9653-08DEADD2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7B05-6B36-4B4B-8CDC-A25837F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2D7A-5ACC-433D-B6A0-BFF9105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A6E4-9E6F-42A5-BCAF-3E322F88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F25F-7653-465B-8EC2-B02F966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4DB1-B307-42D4-AE15-CA4C5C8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198E-035B-4212-8DFF-81653118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00E9-B985-4D17-9B77-AA11288B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DA54-F116-4BFD-98CC-9244A29A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46C-80C4-43EC-852A-FA029338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67E-FF72-4C90-B1B7-D326BD8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585-90C2-4D35-A2CA-8B68D353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2CD-124B-4F3A-9EDB-ED7B2F6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F92-C2CA-4424-AC03-F7DED2A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913-84B0-4ECA-BFD4-FC39269CC5C5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D6B6-5127-4623-8359-69FFA1F5D29E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3FF-DC13-4F57-9719-4A9F099BC917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6D16-EBFD-4EF6-8C9E-067E86782D59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63640" y="1267920"/>
            <a:ext cx="568656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 П</a:t>
            </a:r>
            <a:r>
              <a:rPr b="1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СУМКИ РОБОТИ З ПРАЦЕВЛАШТУВАННЯ ВИПУСКНИКІВ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-Х, 11 (12)-Х КЛАСІВ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 2024 РОЦІ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933360"/>
            <a:ext cx="571176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оловний спеціаліст відділу освіти, культури, молоді та спорту Наталія ПРИХОДЬ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4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0066"/>
                </a:solidFill>
                <a:latin typeface="Monotype Corsiva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каз відділу освіти, культури, молоді та спорту</a:t>
            </a:r>
            <a:r>
              <a:rPr b="0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від 07 травня 2024 року № 4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проведення обліку продовження навчання та працевлаштування випускників    9-х, 11 (12)-х класі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onstantia"/>
              </a:rPr>
              <a:t>ЕТАПИ РОБОТИ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2579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іменний моніторинг випускників 9-х, 11 (12)-х класів в форматі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cel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явність підтверджувальних докумен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з роботи з питань працевлаштування (подальшого навчання) випуск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евлаштування 9-х класів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19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1" name="Содержимое 4"/>
          <p:cNvGraphicFramePr/>
          <p:nvPr/>
        </p:nvGraphicFramePr>
        <p:xfrm>
          <a:off x="1467000" y="2065320"/>
          <a:ext cx="6310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2065320"/>
                    <a:ext cx="6310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Працевлаштування 11 (12)-х класів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Всього 13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4" name="Содержимое 3"/>
          <p:cNvGraphicFramePr/>
          <p:nvPr/>
        </p:nvGraphicFramePr>
        <p:xfrm>
          <a:off x="1411200" y="1647720"/>
          <a:ext cx="6434280" cy="44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647720"/>
                    <a:ext cx="643428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7643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nstantia"/>
              </a:rPr>
              <a:t>Не продовжують навчання після 11 клас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760" y="1642680"/>
            <a:ext cx="67802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Багаточернещинський ліцей” – 1 учень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“Лигівський ліцей” – 4 уч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З “Костянтинівський ліцей” – 3 уч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Огіївський ліцей” – 2 уч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Новоолександрівський ліцей” – 2 уч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Сахновщинський ліцей № 1” – 2 уч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З “Сахновщинський ліцей № 2” – 2 у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ЯКІСНО ВИКОНАНО НАБІР </a:t>
            </a:r>
            <a:br>
              <a:rPr sz="3600"/>
            </a:br>
            <a:r>
              <a:rPr b="0" lang="uk-UA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о 10 клас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760" y="2205000"/>
            <a:ext cx="65642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КЗ «Багаточернещинський ліцей» - 7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Гришівський ліцей» - 9 учнів з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Огіївський ліцей» - 9 учнів з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КЗ «Тавежнянський ліцей» - 8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«Новоолександрівський ліцей» - 8 учнів з 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“Катеринівський ліцей” – 8 учнів з 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З “Костянтинівський ліцей” 5 учнів з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Результати</a:t>
            </a:r>
            <a:r>
              <a:rPr b="0" lang="uk-UA" sz="4400" spc="-1" strike="noStrike">
                <a:solidFill>
                  <a:srgbClr val="ff0066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каз відділу освіти, культури, молоді та сп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 23.10.2024 № 90 “Про підсумки роботи з працевлаштування та подальшого навчання випускників 9-х, 11(12)-х класів закладів загальної середньогї освіти Сахновщинської селищної ради  у 2024 роц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Constantia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14240" y="1714680"/>
            <a:ext cx="771552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ерівникам  закладів осві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собистий контроль питання щодо подальшого навчання та працевлаштування випускників 9-х, 11 (12)-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7:46Z</dcterms:created>
  <dc:creator>Helen</dc:creator>
  <dc:description/>
  <dc:language>en-US</dc:language>
  <cp:lastModifiedBy>Home</cp:lastModifiedBy>
  <dcterms:modified xsi:type="dcterms:W3CDTF">2024-10-25T09:39:20Z</dcterms:modified>
  <cp:revision>51</cp:revision>
  <dc:subject/>
  <dc:title>Слайд 1</dc:title>
</cp:coreProperties>
</file>