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7F8-2E45-4C89-9863-9203247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E73-45F1-4828-9734-A9FB934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29E-EFA4-40D2-9F2F-2319816A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954-401E-49A7-8F35-085C3AD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EA5-2A31-4069-A8EE-BF19C73B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1998-7E8F-4357-A882-03CB53C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064-7708-484E-A892-C77ECA27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4C0-1381-4945-866E-52E8696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8D4B-B9C1-4F1D-AEAD-440BC55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5039-83B8-4F4D-BD49-7F8A71F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875F-A7BC-4B71-847E-F926AF4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0E8-CA10-4844-8ADB-1541FE27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78F4-8FF7-46E8-930E-FCAD2AE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6957-1275-49CD-984B-97C2B6A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098A-411C-45EE-B8A2-4E9AC17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A6E-C6B1-48E6-B9CD-0DFFACAC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DDB0-55DE-4B75-8283-63E51749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153-0CE7-4D0B-88A8-50FEF7B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E35-5C78-4D15-96B2-9C7A229C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0A0-78F4-4ECD-8797-CA0BF89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3E4-2A3F-44FE-9599-A5CBB54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940-6CB9-4C52-83C2-7D3E913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BF6-ECDF-4EA2-ACFB-C58B7BC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78B-02BC-4E95-9753-326F288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232-CBE2-4FA2-A778-7ACA093DD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06B-CF18-440B-BE2B-29A25D80D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</a:rPr>
              <a:t>Про результати проведення НМТ-2024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360" y="4652640"/>
            <a:ext cx="4760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на ЗРАЖЕВСЬКА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 КУ “ЦПРПП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У 2024 році на НМТ було зареєстрова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98 із 13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ипускників ЗЗСО Сахновщинської селищної рад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зяли участь у НМ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94 випуск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547640" y="1700280"/>
          <a:ext cx="6096240" cy="4464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м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сторія Украї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Е СКЛАЛИ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країнська мова – 2 випускни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атематика – 10 випускни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2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523880" y="1397160"/>
          <a:ext cx="6096240" cy="5038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літ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ійська м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іолог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і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із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2" descr=""/>
          <p:cNvPicPr/>
          <p:nvPr/>
        </p:nvPicPr>
        <p:blipFill>
          <a:blip r:embed="rId1"/>
          <a:stretch/>
        </p:blipFill>
        <p:spPr>
          <a:xfrm>
            <a:off x="706320" y="1587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79280" y="1125360"/>
            <a:ext cx="8764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ідвищити якість викладання навчальних предметів, зокр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Українська мо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дійснювати системну роботу по підготовці дітей до НМТ (ЗНО), починаючи з 5 кла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Home</cp:lastModifiedBy>
  <cp:lastPrinted>2024-05-16T13:45:21Z</cp:lastPrinted>
  <dcterms:modified xsi:type="dcterms:W3CDTF">2024-08-28T04:47:23Z</dcterms:modified>
  <cp:revision>71</cp:revision>
  <dc:subject/>
  <dc:title>Слайд 1</dc:title>
</cp:coreProperties>
</file>