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26F63-DF69-418B-871E-9A32ED4EE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DC41D-D1C4-42E8-8E37-98A62D5CA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C8C17-1052-44B5-B61D-1648EA5C0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64032-8264-4134-9D57-9E239B3A4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187F4-C29B-4C6D-B468-B95D4BD99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D21C2-38A6-4014-80B2-618660BEE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436CB-A501-4067-8874-74E8EACA4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131E3-1C73-469D-8298-7C5711095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4800C-384A-4403-B32D-7FE18493E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1E49F-366B-4FBD-88E2-8B5731A06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D3593-B191-4643-A7D7-1A4743009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B6FF3-660A-4DB6-84BC-1673FFD3D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BB8A2-629E-40E3-A663-1C9269A80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39579-C218-4E0F-AC28-9C5EDAC77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9BFD2-F884-498D-9550-E149D870C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B1E01-0F13-4B4C-A295-CD7C47D86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718A7-1842-4031-BAA8-64625A66B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A1FC5-55C0-424E-985B-9AF66DBFE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1572A-1219-4CA2-AB0C-4BB25D56D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0336B-0238-4D19-805C-21D39205F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78C55-CF83-4548-BA24-BE281550D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35DDE-2728-40B3-9463-0EE54EBF6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94521-C095-4445-BB6D-B069F54F6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9EA1A-DD1C-4690-8369-90F58171E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96851-E9DD-4765-90F9-97B8DC899A98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98B9F-6E75-43BE-A17C-0A605FFFCEBB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785880"/>
            <a:ext cx="7772400" cy="281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Організація освітнього процесу у 2024/2025 навчальному роц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59371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98989"/>
                </a:solidFill>
                <a:latin typeface="Times New Roman"/>
              </a:rPr>
              <a:t>Наталія ПРИХОДЬКО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98989"/>
                </a:solidFill>
                <a:latin typeface="Times New Roman"/>
              </a:rPr>
              <a:t>головний спеціаліст ВОКМ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4"/>
          <p:cNvSpPr/>
          <p:nvPr/>
        </p:nvSpPr>
        <p:spPr>
          <a:xfrm>
            <a:off x="3059280" y="5373720"/>
            <a:ext cx="3025440" cy="649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0000"/>
                </a:solidFill>
                <a:latin typeface="Arial"/>
              </a:rPr>
              <a:t>Структура навчального рок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000000"/>
                </a:solidFill>
                <a:latin typeface="Times New Roman"/>
              </a:rPr>
              <a:t>Освітній процес у 2024/2025 навчальному році розпочнеться в День знань 2 вересня і триватиме до 30 червня 2025 року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0000"/>
                </a:solidFill>
                <a:latin typeface="Arial"/>
              </a:rPr>
              <a:t>Структура навчального рок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Навчальні заняття організовуються за </a:t>
            </a:r>
            <a:r>
              <a:rPr b="1" lang="uk-UA" sz="3200" spc="-1" strike="noStrike">
                <a:solidFill>
                  <a:srgbClr val="000000"/>
                </a:solidFill>
                <a:latin typeface="Times New Roman"/>
              </a:rPr>
              <a:t>семестровою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 системою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І семестр – з </a:t>
            </a:r>
            <a:r>
              <a:rPr b="1" lang="uk-UA" sz="3200" spc="-1" strike="noStrike">
                <a:solidFill>
                  <a:srgbClr val="000000"/>
                </a:solidFill>
                <a:latin typeface="Times New Roman"/>
              </a:rPr>
              <a:t>02 вересня по 27 грудня 2024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ІІ семестр – з </a:t>
            </a:r>
            <a:r>
              <a:rPr b="1" lang="uk-UA" sz="3200" spc="-1" strike="noStrike">
                <a:solidFill>
                  <a:srgbClr val="000000"/>
                </a:solidFill>
                <a:latin typeface="Times New Roman"/>
              </a:rPr>
              <a:t>13 січня по 30 травня 2025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8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Упродовж навчального року для учнів проводяться </a:t>
            </a:r>
            <a:r>
              <a:rPr b="1" lang="uk-UA" sz="3200" spc="-1" strike="noStrike">
                <a:solidFill>
                  <a:srgbClr val="000000"/>
                </a:solidFill>
                <a:latin typeface="Times New Roman"/>
              </a:rPr>
              <a:t>канікули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осінні – </a:t>
            </a:r>
            <a:r>
              <a:rPr b="1" lang="uk-UA" sz="3200" spc="-1" strike="noStrike">
                <a:solidFill>
                  <a:srgbClr val="000000"/>
                </a:solidFill>
                <a:latin typeface="Times New Roman"/>
              </a:rPr>
              <a:t>28.10.2024-03.11.2024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зимові – </a:t>
            </a:r>
            <a:r>
              <a:rPr b="1" lang="uk-UA" sz="3200" spc="-1" strike="noStrike">
                <a:solidFill>
                  <a:srgbClr val="000000"/>
                </a:solidFill>
                <a:latin typeface="Times New Roman"/>
              </a:rPr>
              <a:t>28.12.2024-12.01.2025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весняні – </a:t>
            </a:r>
            <a:r>
              <a:rPr b="1" lang="uk-UA" sz="3200" spc="-1" strike="noStrike">
                <a:solidFill>
                  <a:srgbClr val="000000"/>
                </a:solidFill>
                <a:latin typeface="Times New Roman"/>
              </a:rPr>
              <a:t>24.03.2025-30.03.2025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0000"/>
                </a:solidFill>
                <a:latin typeface="Arial"/>
              </a:rPr>
              <a:t>Структура навчального рок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Педагогічною радою закладу освіти визначаються також тривалість навчального тижня, дня занять і відпочинку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У закладах освіти щоденно </a:t>
            </a:r>
            <a:r>
              <a:rPr b="1" lang="uk-UA" sz="3200" spc="-1" strike="noStrike">
                <a:solidFill>
                  <a:srgbClr val="000000"/>
                </a:solidFill>
                <a:latin typeface="Times New Roman"/>
              </a:rPr>
              <a:t>о 9 годині 00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хвилин має проводитись </a:t>
            </a:r>
            <a:r>
              <a:rPr b="1" lang="uk-UA" sz="3200" spc="-1" strike="noStrike">
                <a:solidFill>
                  <a:srgbClr val="000000"/>
                </a:solidFill>
                <a:latin typeface="Times New Roman"/>
              </a:rPr>
              <a:t>загальнонаціональна хвилина мовчання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Форми  організації освітнього процес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Times New Roman"/>
              </a:rPr>
              <a:t>Освітній процес організовується в безпечному освітньому середовищі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(форма організації освітнього процесу може змінюватися впродовж навчального року в залежності від безпекової ситуації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0000"/>
                </a:solidFill>
                <a:latin typeface="Arial"/>
              </a:rPr>
              <a:t>Форми  організації освітнього процес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За потреби заклад освіти може організовувати індивідуальні форми здобуття освіти (зокрема екстернатну, сімейну (домашню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Організація освітнього процесу не повинна призводити до перевантаження учнів та має забезпечувати безпечні, нешкідливі та здорові умови здобуття освіт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Дистанційна форма навчанн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 метою забезпечення в закладі освіти єдиних підходів до створення електронного освітнього середовища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педагогічна рада схвалює використання конкретних інформаційно-телекомунікаційних систем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електронних освітніх платформ), комунікаційних онлайн сервісів та інструментів, за допомогою яких організовується освітній процес під час дистанційного навчання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Щотижня заповнюємо гугл-таблицю з розкладом та посиланнями на платформи, де буде здійснюватись освітній проце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Освітня діяльні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0000"/>
                </a:solidFill>
                <a:latin typeface="Times New Roman"/>
              </a:rPr>
              <a:t>В  2024/2025 навчальному році продовжується  поетапне впровадження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Державного стандарту базової середньої освіти, відповідно учні 7 класів закладів загальної середньої освіти переходять на нову модель навчання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Оцінювання результатів навчанн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Times New Roman"/>
              </a:rPr>
              <a:t>Оцінювання здобувачів початкової освіт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У 1-4 класах відповідно до Державного стандарту початкової освіти здійснюють формувальне і підсумкове оцінювання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Методичні рекомендації щодо оцінювання результатів навчання учнів 1-4 класів закладів загальної середньої освіти (наказ МОН від 13.07.2021 № 81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Оцінювання результатів навчанн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Times New Roman"/>
              </a:rPr>
              <a:t>Оцінювання учнів 5-7 класі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У 2024/2025 навчальному році оцінювання учнів 5-7 класів здійснюється відповідно до Методичних рекомендацій (наказ МОН від  02.08.2024 № 109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 офіційному сайті Міністерства освіти і науки України розміщено посібники: «Оцінювання навчальних досягнень учнів з особливими освітніми потребами»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Оцінювання результатів навчанн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Times New Roman"/>
              </a:rPr>
              <a:t>Оцінювання учнів 8-11 класі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У 2024/2025 навчальному році оцінювання учнів 8-11 класів здійснюється за Критеріями оцінювання (наказ МОН молоді та спорту від 13.04.2011 №329) та Орієнтовними вимогами оцінювання навчальних досягнень учнів із базових дисциплін (наказ МОН від 21.08.2013 № 1222 із змінами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Семестрова та річна оцінки можуть підлягати коригуванню (пункт 3.2. Інструкції з ведення класного журналу (наказ МОН від 03.06.2008р. № 496) ; пункти 9,10 Порядку переведення учнів (вихованців) закладу загальної середньої освіти до наступного класу (наказ МОН від 14.07.2015 № 762 (зі змінами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24000" y="2857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Організація освітнього процесу в ЗЗСО в 2024/2025 навчальному році здійснюватиметься відповідно до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УВАГА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Для здійснення входу до АІС “АІКОМ 2” необхідний КЕП юридичної особ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Відповідно до інструкцій в АІС “АІКОМ 2” один користувач не може мати дві різні ролі в системі (одна людина не може бути  Адміністратором та Користувачем одночасно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Тому терміново робимо КЕП юридичної особи для своїх адміністраторів та користувачі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4" descr="колокольчик книги"/>
          <p:cNvPicPr/>
          <p:nvPr/>
        </p:nvPicPr>
        <p:blipFill>
          <a:blip r:embed="rId1"/>
          <a:stretch/>
        </p:blipFill>
        <p:spPr>
          <a:xfrm>
            <a:off x="4140360" y="2924280"/>
            <a:ext cx="3887640" cy="352908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79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000000"/>
                </a:solidFill>
                <a:latin typeface="Arial"/>
              </a:rPr>
              <a:t>Дякую за увагу!</a:t>
            </a:r>
            <a:br>
              <a:rPr sz="4400"/>
            </a:br>
            <a:r>
              <a:rPr b="1" i="1" lang="uk-UA" sz="4400" spc="-1" strike="noStrike">
                <a:solidFill>
                  <a:srgbClr val="000000"/>
                </a:solidFill>
                <a:latin typeface="Arial"/>
              </a:rPr>
              <a:t>Бажаю натхнення та творчого успіху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9640" y="47628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0000"/>
                </a:solidFill>
                <a:latin typeface="Times New Roman"/>
              </a:rPr>
              <a:t>НОРМАТИВНЕ ЗАБЕЗПЕЧЕН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Times New Roman"/>
              </a:rPr>
              <a:t>ЗАКОНИ УКРАЇН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«Про освіту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«Про повну загальну середню освіту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«Про внесення змін до деяких законів України в сфері освіти щодо врегулювання окремих питань освітньої діяльності в умовах воєнного стану (№ 7325 від 28.04.2022)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«Про функціонування української мови як державно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0000"/>
                </a:solidFill>
                <a:latin typeface="Arial"/>
              </a:rPr>
              <a:t>НОРМАТИВНЕ ЗАБЕЗПЕЧЕН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Times New Roman"/>
              </a:rPr>
              <a:t>Постанова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Кабінету Міністрів України від 23 липня 2024 року № 841 «Про початок навчального року під час дії правового режиму воєнного стану в Україні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Times New Roman"/>
              </a:rPr>
              <a:t>Санітарний  регламент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для закладів загальної середньої освіти, затвердженого наказом Міністерства охорони здоров’я України від 25.09.2020 № 2205, зареєстрованого в Міністерстві юстиції України 10 листопада 2020 року за № 1111/35394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0000"/>
                </a:solidFill>
                <a:latin typeface="Arial"/>
              </a:rPr>
              <a:t>НОРМАТИВНЕ ЗАБЕЗПЕЧЕН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Times New Roman"/>
              </a:rPr>
              <a:t>Типові освітні програми для закладів загальної середньої освіти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Типові освітні програми для учнів 1-2 класів, 3-4 класів ЗЗСО (автор О.Я. Савченко) (наказ МОН від 12.08.2022   № 74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Типова освітня програма для 5-9 класів ЗЗСО – 5-7 класи (наказ МОН від 19.02.2021 № 235 </a:t>
            </a:r>
            <a:r>
              <a:rPr b="0" lang="uk-UA" sz="2400" spc="-1" strike="noStrike">
                <a:solidFill>
                  <a:srgbClr val="ff0000"/>
                </a:solidFill>
                <a:latin typeface="Times New Roman"/>
              </a:rPr>
              <a:t>в редакції наказу МОН України від 09.08.2024 №1120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Типова освітня програма ЗЗСО ІІ ступеня  - 8-9 класи (наказ МОН від 20.04.2018 № 40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Типова освітня програма ЗЗСО ІІІ ступеня  (наказ МОН від 20.04.2018 № 408 у редакції наказу МОН від 28.11.2019 № 1493 зі змінами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0000"/>
                </a:solidFill>
                <a:latin typeface="Arial"/>
              </a:rPr>
              <a:t>НОРМАТИВНЕ ЗАБЕЗПЕЧЕН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6840" y="1268280"/>
            <a:ext cx="84358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Times New Roman"/>
              </a:rPr>
              <a:t>Накази Міністерства освіти і науки Україн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300" spc="-1" strike="noStrike">
                <a:solidFill>
                  <a:srgbClr val="000000"/>
                </a:solidFill>
                <a:latin typeface="Times New Roman"/>
              </a:rPr>
              <a:t>Від 28.03.2022 № 274 «Про деякі питання здобуття загальної середньої освіти та освітнього процесу в умовах воєнного стану»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300" spc="-1" strike="noStrike">
                <a:solidFill>
                  <a:srgbClr val="000000"/>
                </a:solidFill>
                <a:latin typeface="Times New Roman"/>
              </a:rPr>
              <a:t>Від 15.05.2023 № 563 “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Про затвердження методичних рекомендацій щодо окремих питань здобуття освіти в закладах загальної середньої освіти в умовах воєнного стану в Україні»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300" spc="-1" strike="noStrike">
                <a:solidFill>
                  <a:srgbClr val="000000"/>
                </a:solidFill>
                <a:latin typeface="Times New Roman"/>
              </a:rPr>
              <a:t>Від 13.06.2024 № 836 «Про внесення змін у Методичні рекомендації щодо окремих питань здобуття освіти в закладах загальної середньої освіти в умовах  воєнного стану в Україні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Наказ МОН № 111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Від 07.08.2024 № 1112 «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о затвердження Порядку та умов здобуття загальної середньої освіти в комунальних закладах загальної середньої освіти в умовах воєнного стану в Україні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(Вимоги цих Порядку та умов повинні бути реалізовані станом на дату початку 2025/2026 навчального року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34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0000"/>
                </a:solidFill>
                <a:latin typeface="Arial"/>
              </a:rPr>
              <a:t>НОРМАТИВНЕ ЗАБЕЗПЕЧЕН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6840" y="1268280"/>
            <a:ext cx="80024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ff0000"/>
                </a:solidFill>
                <a:latin typeface="Times New Roman"/>
              </a:rPr>
              <a:t>Накази Міністерства освіти і науки Україн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0000"/>
                </a:solidFill>
                <a:latin typeface="Times New Roman"/>
              </a:rPr>
              <a:t>Від  23.04.2019 № 536 (у редакції від 10.02.2021 № 160) </a:t>
            </a:r>
            <a:r>
              <a:rPr b="1" lang="uk-UA" sz="2400" spc="-1" strike="noStrike">
                <a:solidFill>
                  <a:srgbClr val="ff0000"/>
                </a:solidFill>
                <a:latin typeface="Times New Roman"/>
              </a:rPr>
              <a:t>Положення про інституційну та дуальну форми здобуття повної загальної середньої освіт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0000"/>
                </a:solidFill>
                <a:latin typeface="Times New Roman"/>
              </a:rPr>
              <a:t>Від 12.01.2016 № 8 (у редакції від 10.02.2021    № 160) </a:t>
            </a:r>
            <a:r>
              <a:rPr b="1" lang="uk-UA" sz="2400" spc="-1" strike="noStrike">
                <a:solidFill>
                  <a:srgbClr val="ff0000"/>
                </a:solidFill>
                <a:latin typeface="Times New Roman"/>
              </a:rPr>
              <a:t>Положення про індивідуальну форму здобуття повної загальної середньої освіт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0000"/>
                </a:solidFill>
                <a:latin typeface="Times New Roman"/>
              </a:rPr>
              <a:t>Від 08.09.2020 № 1115 </a:t>
            </a:r>
            <a:r>
              <a:rPr b="1" lang="uk-UA" sz="2400" spc="-1" strike="noStrike">
                <a:solidFill>
                  <a:srgbClr val="ff0000"/>
                </a:solidFill>
                <a:latin typeface="Times New Roman"/>
              </a:rPr>
              <a:t>Положення про дистанційну форму здобуття повної загальної середньої освіт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24.02.2023  № 201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Зміни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до Положення про дистанційну форму здобуття повної загальної середньої освіт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0000"/>
                </a:solidFill>
                <a:latin typeface="Arial"/>
              </a:rPr>
              <a:t>НОРМАТИВНЕ ЗАБЕЗПЕЧЕН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Порядок ведення обліку дітей дошкільного, шкільного віку, вихованців та учнів (Постанова КМУ № 985 від 05.09.202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Порядок зарахування, відрахування та переведення учнів до державних та комунальних закладів освіти для здобуття повної загальної середньої освіти (наказ МОН від 20.05.2024 № 714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3T08:38:35Z</dcterms:created>
  <dc:creator>Елена</dc:creator>
  <dc:description/>
  <dc:language>en-US</dc:language>
  <cp:lastModifiedBy>Home</cp:lastModifiedBy>
  <dcterms:modified xsi:type="dcterms:W3CDTF">2024-08-27T17:11:51Z</dcterms:modified>
  <cp:revision>227</cp:revision>
  <dc:subject/>
  <dc:title>Слайд 1</dc:title>
</cp:coreProperties>
</file>